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DE8E-8DDB-468C-BFA2-EB804D15F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Coloured tiles can be used to excite the imagination of students in your classroom.  They can be used for a variety of activities from fractions to ratios, from patterning to integers, from perimeter and area to polynom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y can also be used as colour counters for algeb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ents can use the tiles to demonstrate a variety of solutions to the same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hot, so use red tiles as positive.  That means the blue tiles are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represent zero using two 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d tile and one blue tile together make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show the number –7 using both blue and red t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red tiles and eleven blue tiles will give – 7. This happens because four blue tiles and four red tiles make z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question: “How can we ad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ree red tiles, and count the total number of tiles that are not zero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eems to be a common belief that if the perimeter is the same,  so is the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problem: “ Build as many rectangles as you can using all of the tiles, and count the perimeter for each one.  Keep in mind that every tile must share at  least one side with another tile. To count the perimeter, count the interior edges of the shape. Count the area use the squares on the grid pa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orners can be included or left out of the shapes depending of the level of the learner, but the facilitator should encourage consistency to maintain the peri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time to explore, and record the shapes and their areas and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e the extending problem: “Try to develop none rectangular shapes with the same perimeter.   The same rules apply for placing the tiles and counting the area and peri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participants to find how to maximize the area for a given perime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we are going to do a 4 corners activity.  If you want to refer to your Think Literacy: Mathematics document page 106-110. Your statement is “These tiles should be used only in the primary and junior classroo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the literacy strategy as a home activity to further this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Think Literacy: Mathematics document page 46-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reference the Geometer’s Sketchpad (GSP) demonstration within the colour tiles folder.  This sketch extends the learning through the use of technology in the classroo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97265-94B3-4168-841B-F51CDD16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A7F2-C52F-4DE2-864F-A4977AFF4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9C192-9B65-4F36-AEA6-C8441AF3B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C57AB-2735-42FF-9312-78DC61DC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59E0-A8DB-4417-9480-9B3386F1F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527B-819F-49F4-A4E3-CF432559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67F3-D665-4B26-AB3A-A8315C28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25519-FFBA-4579-9103-7F383801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99A5A-013D-4833-8E82-216AF76DC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7C52-AE15-4600-9657-C45FB6BCE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BC101-3F3D-4985-B767-44B750160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50F0-C025-49A4-BD75-B58E1E567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7928-29A0-47EA-87A8-6F3DE6B4D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olour Til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762120" y="2624040"/>
            <a:ext cx="3581280" cy="3471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581280" y="1905120"/>
            <a:ext cx="45720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If I teach and you don’t learn, what  do I do differently?</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Anonymous</a:t>
            </a: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335320" cy="304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Colour Tiles</a:t>
            </a:r>
            <a:endParaRPr b="1" lang="en-US" sz="4400" spc="-1" strike="noStrike">
              <a:solidFill>
                <a:srgbClr val="ff424d"/>
              </a:solidFill>
              <a:latin typeface="Arial"/>
            </a:endParaRPr>
          </a:p>
        </p:txBody>
      </p:sp>
      <p:pic>
        <p:nvPicPr>
          <p:cNvPr id="58" name="" descr=""/>
          <p:cNvPicPr/>
          <p:nvPr/>
        </p:nvPicPr>
        <p:blipFill>
          <a:blip r:embed="rId1"/>
          <a:stretch/>
        </p:blipFill>
        <p:spPr>
          <a:xfrm>
            <a:off x="1295280" y="2057400"/>
            <a:ext cx="3581640" cy="3471840"/>
          </a:xfrm>
          <a:prstGeom prst="rect">
            <a:avLst/>
          </a:prstGeom>
          <a:ln w="19080">
            <a:solidFill>
              <a:srgbClr val="000000"/>
            </a:solidFill>
            <a:miter/>
          </a:ln>
        </p:spPr>
      </p:pic>
      <p:sp>
        <p:nvSpPr>
          <p:cNvPr id="59" name=""/>
          <p:cNvSpPr/>
          <p:nvPr/>
        </p:nvSpPr>
        <p:spPr>
          <a:xfrm>
            <a:off x="5105520" y="5105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7301"/>
                </a:moveTo>
                <a:lnTo>
                  <a:pt x="11183" y="7301"/>
                </a:lnTo>
                <a:lnTo>
                  <a:pt x="11566" y="7667"/>
                </a:lnTo>
                <a:lnTo>
                  <a:pt x="20775" y="7667"/>
                </a:lnTo>
                <a:lnTo>
                  <a:pt x="21332" y="8224"/>
                </a:lnTo>
                <a:lnTo>
                  <a:pt x="21332" y="8772"/>
                </a:lnTo>
                <a:lnTo>
                  <a:pt x="23177" y="8772"/>
                </a:lnTo>
                <a:lnTo>
                  <a:pt x="23543" y="8224"/>
                </a:lnTo>
                <a:lnTo>
                  <a:pt x="24282" y="8224"/>
                </a:lnTo>
                <a:lnTo>
                  <a:pt x="24282" y="13376"/>
                </a:lnTo>
                <a:lnTo>
                  <a:pt x="23543" y="13376"/>
                </a:lnTo>
                <a:lnTo>
                  <a:pt x="23177" y="12828"/>
                </a:lnTo>
                <a:lnTo>
                  <a:pt x="21332" y="12828"/>
                </a:lnTo>
                <a:lnTo>
                  <a:pt x="21332" y="14107"/>
                </a:lnTo>
                <a:lnTo>
                  <a:pt x="11749" y="14107"/>
                </a:lnTo>
                <a:lnTo>
                  <a:pt x="11749" y="9877"/>
                </a:lnTo>
                <a:lnTo>
                  <a:pt x="11566" y="9877"/>
                </a:lnTo>
                <a:lnTo>
                  <a:pt x="11183" y="10243"/>
                </a:lnTo>
                <a:lnTo>
                  <a:pt x="10269" y="10243"/>
                </a:lnTo>
                <a:close/>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Polyominoe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762120" y="2514600"/>
            <a:ext cx="4165560" cy="3594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85440" y="1981080"/>
            <a:ext cx="8001000" cy="4114800"/>
          </a:xfrm>
          <a:prstGeom prst="rect">
            <a:avLst/>
          </a:prstGeom>
          <a:noFill/>
          <a:ln w="0">
            <a:noFill/>
          </a:ln>
        </p:spPr>
        <p:txBody>
          <a:bodyPr anchor="t">
            <a:normAutofit/>
          </a:bodyPr>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6342ff"/>
                </a:solidFill>
                <a:latin typeface="Arial"/>
                <a:ea typeface="Times New Roman"/>
              </a:rPr>
              <a:t>Given a set of tiles with two different colours, how could you represent the adding and subtracting of integers?</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6342ff"/>
                </a:solidFill>
                <a:latin typeface="Arial"/>
                <a:ea typeface="Times New Roman"/>
              </a:rPr>
              <a:t>For example:</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ea typeface="Times New Roman"/>
              </a:rPr>
              <a:t>     </a:t>
            </a:r>
            <a:r>
              <a:rPr b="1" lang="en-US" sz="2000" spc="-1" strike="noStrike">
                <a:solidFill>
                  <a:srgbClr val="e73131"/>
                </a:solidFill>
                <a:latin typeface="Arial"/>
                <a:ea typeface="Times New Roman"/>
              </a:rPr>
              <a:t>– </a:t>
            </a:r>
            <a:r>
              <a:rPr b="1" lang="en-US" sz="2000" spc="-1" strike="noStrike">
                <a:solidFill>
                  <a:srgbClr val="e73131"/>
                </a:solidFill>
                <a:latin typeface="Arial"/>
                <a:ea typeface="Times New Roman"/>
              </a:rPr>
              <a:t>7 + 3 = x</a:t>
            </a:r>
            <a:r>
              <a:rPr b="1" lang="en-US" sz="2000" spc="-1" strike="noStrike">
                <a:solidFill>
                  <a:srgbClr val="6342ff"/>
                </a:solidFill>
                <a:latin typeface="Arial"/>
                <a:ea typeface="Times New Roman"/>
              </a:rPr>
              <a:t>       or        </a:t>
            </a:r>
            <a:r>
              <a:rPr b="1" lang="en-US" sz="2000" spc="-1" strike="noStrike">
                <a:solidFill>
                  <a:srgbClr val="e73131"/>
                </a:solidFill>
                <a:latin typeface="Arial"/>
                <a:ea typeface="Times New Roman"/>
              </a:rPr>
              <a:t>5 – (– 4) = y</a:t>
            </a:r>
            <a:r>
              <a:rPr b="1" lang="en-US" sz="2000" spc="-1" strike="noStrike">
                <a:solidFill>
                  <a:srgbClr val="6342ff"/>
                </a:solidFill>
                <a:latin typeface="Arial"/>
                <a:ea typeface="Times New Roman"/>
              </a:rPr>
              <a:t>  </a:t>
            </a:r>
            <a:endParaRPr b="1" lang="en-US" sz="2000" spc="-1" strike="noStrike">
              <a:solidFill>
                <a:srgbClr val="6342ff"/>
              </a:solidFill>
              <a:latin typeface="Arial"/>
            </a:endParaRPr>
          </a:p>
          <a:p>
            <a:pPr lvl="4" marL="21718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sp>
        <p:nvSpPr>
          <p:cNvPr id="65" name=""/>
          <p:cNvSpPr/>
          <p:nvPr/>
        </p:nvSpPr>
        <p:spPr>
          <a:xfrm>
            <a:off x="1523880" y="205740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90720" y="20574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3124080"/>
            <a:ext cx="380880" cy="38124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57400" y="2057400"/>
            <a:ext cx="380880" cy="38088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2590920"/>
            <a:ext cx="380880" cy="380880"/>
          </a:xfrm>
          <a:prstGeom prst="rect">
            <a:avLst/>
          </a:prstGeom>
          <a:solidFill>
            <a:srgbClr val="9c8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ispelling Misunderstanding</a:t>
            </a:r>
            <a:endParaRPr b="1" lang="en-US" sz="4400" spc="-1" strike="noStrike">
              <a:solidFill>
                <a:srgbClr val="ff424d"/>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	</a:t>
            </a:r>
            <a:r>
              <a:rPr b="1" lang="en-US" sz="2400" spc="-1" strike="noStrike" u="sng">
                <a:solidFill>
                  <a:srgbClr val="6342ff"/>
                </a:solidFill>
                <a:uFillTx/>
                <a:latin typeface="Arial"/>
                <a:ea typeface="Times New Roman"/>
              </a:rPr>
              <a:t>Building A Garden</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Build all of the different rectangular gardens  with a perimeter of 20 tiles.  </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Compare the areas.</a:t>
            </a:r>
            <a:endParaRPr b="1" lang="en-US" sz="2400" spc="-1" strike="noStrike">
              <a:solidFill>
                <a:srgbClr val="6342ff"/>
              </a:solidFill>
              <a:latin typeface="Arial"/>
            </a:endParaRPr>
          </a:p>
          <a:p>
            <a:pPr marL="914400" indent="-398520">
              <a:spcBef>
                <a:spcPts val="601"/>
              </a:spcBef>
              <a:buClr>
                <a:srgbClr val="6342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ea typeface="Times New Roman"/>
              </a:rPr>
              <a:t>Now extend your thinking to irregular shapes with the same perimeter, and compare the areas. </a:t>
            </a:r>
            <a:endParaRPr b="1" lang="en-US" sz="2400" spc="-1" strike="noStrike">
              <a:solidFill>
                <a:srgbClr val="6342ff"/>
              </a:solidFill>
              <a:latin typeface="Arial"/>
            </a:endParaRPr>
          </a:p>
        </p:txBody>
      </p:sp>
      <p:sp>
        <p:nvSpPr>
          <p:cNvPr id="72" name=""/>
          <p:cNvSpPr/>
          <p:nvPr/>
        </p:nvSpPr>
        <p:spPr>
          <a:xfrm>
            <a:off x="4038480" y="579132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5410080"/>
            <a:ext cx="381240" cy="38124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38480" y="5029200"/>
            <a:ext cx="38124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50292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76720" y="579132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76720" y="5410080"/>
            <a:ext cx="380880" cy="38124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276720" y="502920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657600" y="5791320"/>
            <a:ext cx="380880" cy="380880"/>
          </a:xfrm>
          <a:prstGeom prst="rect">
            <a:avLst/>
          </a:prstGeom>
          <a:solidFill>
            <a:srgbClr val="ff42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48320" y="58672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342ff"/>
                </a:solidFill>
                <a:latin typeface="Arial"/>
              </a:rPr>
              <a:t>… </a:t>
            </a:r>
            <a:r>
              <a:rPr b="0" lang="en-US" sz="1600" spc="-1" strike="noStrike">
                <a:solidFill>
                  <a:srgbClr val="6342ff"/>
                </a:solidFill>
                <a:latin typeface="Arial"/>
              </a:rPr>
              <a:t>an 8 tile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a:t>
            </a:r>
            <a:endParaRPr b="1" lang="en-US" sz="4400" spc="-1" strike="noStrike">
              <a:solidFill>
                <a:srgbClr val="ff424d"/>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83"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	</a:t>
            </a:r>
            <a:r>
              <a:rPr b="1" lang="en-US" sz="2400" spc="-1" strike="noStrike">
                <a:solidFill>
                  <a:srgbClr val="6342ff"/>
                </a:solidFill>
                <a:latin typeface="Arial"/>
              </a:rPr>
              <a:t>4-CORNERS</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a:t>
            </a:r>
            <a:r>
              <a:rPr b="1" lang="en-US" sz="2400" spc="-1" strike="noStrike">
                <a:solidFill>
                  <a:srgbClr val="6342ff"/>
                </a:solidFill>
                <a:latin typeface="Arial"/>
              </a:rPr>
              <a:t>These tiles should be used only in the primary and junior classro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85" name=""/>
          <p:cNvSpPr/>
          <p:nvPr/>
        </p:nvSpPr>
        <p:spPr>
          <a:xfrm>
            <a:off x="2438280" y="1828800"/>
            <a:ext cx="5791320" cy="3962520"/>
          </a:xfrm>
          <a:prstGeom prst="rect">
            <a:avLst/>
          </a:prstGeom>
          <a:noFill/>
          <a:ln w="0">
            <a:noFill/>
          </a:ln>
        </p:spPr>
        <p:style>
          <a:lnRef idx="0"/>
          <a:fillRef idx="0"/>
          <a:effectRef idx="0"/>
          <a:fontRef idx="minor"/>
        </p:style>
        <p:txBody>
          <a:bodyPr lIns="90000" rIns="90000" tIns="46800" bIns="46800" anchor="t">
            <a:normAutofit fontScale="93000"/>
          </a:bodyPr>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of the websites from the LMS</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manipulative sheet</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Reading a Problem” strategy</a:t>
            </a:r>
            <a:endParaRPr b="0" lang="en-US" sz="24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o solve the sample problem:  </a:t>
            </a:r>
            <a:endParaRPr b="0" lang="en-US" sz="24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Design a sequence of patterns.  </a:t>
            </a:r>
            <a:endParaRPr b="0" lang="en-US" sz="20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Analyze the pattern and determine </a:t>
            </a:r>
            <a:endParaRPr b="0" lang="en-US" sz="2000" spc="-1" strike="noStrike">
              <a:solidFill>
                <a:srgbClr val="000000"/>
              </a:solidFill>
              <a:latin typeface="Times New Roman"/>
            </a:endParaRPr>
          </a:p>
          <a:p>
            <a:pPr marL="496080" indent="-496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an attribute of the 100</a:t>
            </a:r>
            <a:r>
              <a:rPr b="1" i="1" lang="en-US" sz="2000" spc="-1" strike="noStrike" baseline="30000">
                <a:solidFill>
                  <a:srgbClr val="e73131"/>
                </a:solidFill>
                <a:latin typeface="Arial"/>
              </a:rPr>
              <a:t>th</a:t>
            </a:r>
            <a:r>
              <a:rPr b="1" i="1" lang="en-US" sz="2000" spc="-1" strike="noStrike">
                <a:solidFill>
                  <a:srgbClr val="e73131"/>
                </a:solidFill>
                <a:latin typeface="Arial"/>
              </a:rPr>
              <a:t> term </a:t>
            </a:r>
            <a:endParaRPr b="0" lang="en-US" sz="2000" spc="-1" strike="noStrike">
              <a:solidFill>
                <a:srgbClr val="000000"/>
              </a:solidFill>
              <a:latin typeface="Times New Roman"/>
            </a:endParaRPr>
          </a:p>
          <a:p>
            <a:pPr marL="496080" indent="-49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73131"/>
                </a:solidFill>
                <a:latin typeface="Arial"/>
              </a:rPr>
              <a:t>in the sequence.</a:t>
            </a:r>
            <a:r>
              <a:rPr b="1" lang="en-US" sz="2400" spc="-1" strike="noStrike">
                <a:solidFill>
                  <a:srgbClr val="6342ff"/>
                </a:solidFill>
                <a:latin typeface="Arial"/>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838080" y="1981080"/>
            <a:ext cx="1319400" cy="1702080"/>
          </a:xfrm>
          <a:prstGeom prst="rect">
            <a:avLst/>
          </a:prstGeom>
          <a:ln w="19080">
            <a:solidFill>
              <a:srgbClr val="000000"/>
            </a:solidFill>
            <a:miter/>
          </a:ln>
        </p:spPr>
      </p:pic>
      <p:pic>
        <p:nvPicPr>
          <p:cNvPr id="87" name="" descr=""/>
          <p:cNvPicPr/>
          <p:nvPr/>
        </p:nvPicPr>
        <p:blipFill>
          <a:blip r:embed="rId2"/>
          <a:stretch/>
        </p:blipFill>
        <p:spPr>
          <a:xfrm>
            <a:off x="838080" y="3886200"/>
            <a:ext cx="13366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89" name="PlaceHolder 2"/>
          <p:cNvSpPr>
            <a:spLocks noGrp="1"/>
          </p:cNvSpPr>
          <p:nvPr>
            <p:ph/>
          </p:nvPr>
        </p:nvSpPr>
        <p:spPr>
          <a:xfrm>
            <a:off x="1523880" y="1981080"/>
            <a:ext cx="609624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0" name="" descr=""/>
          <p:cNvPicPr/>
          <p:nvPr/>
        </p:nvPicPr>
        <p:blipFill>
          <a:blip r:embed="rId1"/>
          <a:stretch/>
        </p:blipFill>
        <p:spPr>
          <a:xfrm>
            <a:off x="533520" y="4248000"/>
            <a:ext cx="1981080" cy="1981440"/>
          </a:xfrm>
          <a:prstGeom prst="rect">
            <a:avLst/>
          </a:prstGeom>
          <a:ln w="0">
            <a:noFill/>
          </a:ln>
        </p:spPr>
      </p:pic>
      <p:pic>
        <p:nvPicPr>
          <p:cNvPr id="91" name="" descr=""/>
          <p:cNvPicPr/>
          <p:nvPr/>
        </p:nvPicPr>
        <p:blipFill>
          <a:blip r:embed="rId2"/>
          <a:stretch/>
        </p:blipFill>
        <p:spPr>
          <a:xfrm>
            <a:off x="2666880" y="4267080"/>
            <a:ext cx="3705480" cy="2067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2:50Z</dcterms:modified>
  <cp:revision>28</cp:revision>
  <dc:subject/>
  <dc:title>Using Manipulatives to Build Understanding</dc:title>
</cp:coreProperties>
</file>